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73152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4513680"/>
            <a:ext cx="73152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832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451368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288320" y="451368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2840" y="320004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86040" y="320004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451368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2840" y="451368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486040" y="4513680"/>
            <a:ext cx="235512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32000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356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288320" y="3200040"/>
            <a:ext cx="356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2338200"/>
            <a:ext cx="7620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8320" y="3200040"/>
            <a:ext cx="356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451368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356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832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8320" y="451368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8320" y="3200040"/>
            <a:ext cx="35697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4513680"/>
            <a:ext cx="73152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dc00"/>
                </a:solidFill>
                <a:latin typeface="Arial Rounded MT Bold"/>
              </a:rPr>
              <a:t>Click to edit the title text format</a:t>
            </a:r>
            <a:endParaRPr b="1" lang="en-US" sz="45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2000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233280" indent="-2332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233280" indent="-2332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233280" indent="-233280"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33280" indent="-233280">
              <a:spcBef>
                <a:spcPts val="700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33280" indent="-23328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33280" indent="-23328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.walls@boxhill.edu.a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"/>
          <p:cNvSpPr/>
          <p:nvPr/>
        </p:nvSpPr>
        <p:spPr>
          <a:xfrm>
            <a:off x="468360" y="1798560"/>
            <a:ext cx="7954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Rounded MT Bold"/>
              </a:rPr>
              <a:t>Dr Sandra Wa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dc00"/>
                </a:solidFill>
                <a:latin typeface="Arial Rounded MT Bold"/>
              </a:rPr>
              <a:t>General Manager Academic Go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Box 1"/>
          <p:cNvSpPr/>
          <p:nvPr/>
        </p:nvSpPr>
        <p:spPr>
          <a:xfrm>
            <a:off x="135360" y="3645000"/>
            <a:ext cx="4569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s.walls@boxhill.edu.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dc00"/>
                </a:solidFill>
                <a:latin typeface="Arial Rounded MT Bold"/>
              </a:rPr>
              <a:t>www.boxhill.edu.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dc00"/>
                </a:solidFill>
                <a:latin typeface="Arial Rounded MT Bold"/>
              </a:rPr>
              <a:t>Box Hill Institut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ccdc00"/>
                </a:solidFill>
                <a:latin typeface="Arial Rounded MT Bold"/>
              </a:rPr>
              <a:t>Thank you</a:t>
            </a:r>
            <a:endParaRPr b="1" lang="en-US" sz="48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9640" y="2508120"/>
            <a:ext cx="748836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19047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Support for Sessional Academic Staff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39640" y="368280"/>
            <a:ext cx="7488360" cy="69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For the eleven years that the Box Hill Institute Group (BHI Group) has delivered higher education degrees, sessional academic staff have been supported to pursue profess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development via postgraduate education courses with established university partn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770360" y="4437000"/>
            <a:ext cx="437364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6680" y="10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What it is 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71640" y="-1022760"/>
            <a:ext cx="7056360" cy="87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Sessional academic staff supported to pursue professional development via postgraduate education courses with established university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Active Communities of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Grants available to facilitate schola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Annual mixed sector symposium – Go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Annual teaching and learning sympo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Leadership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How it Works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24000" y="192996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Master of Education</a:t>
            </a:r>
            <a:r>
              <a:rPr b="0" lang="en-AU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– Monash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Graduate Certificate in Tertiary Teaching</a:t>
            </a:r>
            <a:r>
              <a:rPr b="0" lang="en-AU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– The University of Melbou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Previousl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Graduate Certificate in Higher Education – Deakin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Graduate Certificate in TESOL – Deakin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Users\b.haylock\Desktop\url.jpg"/>
          <p:cNvPicPr/>
          <p:nvPr/>
        </p:nvPicPr>
        <p:blipFill>
          <a:blip r:embed="rId1"/>
          <a:stretch/>
        </p:blipFill>
        <p:spPr>
          <a:xfrm>
            <a:off x="686124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b.haylock\Desktop\url.jpg"/>
          <p:cNvPicPr/>
          <p:nvPr/>
        </p:nvPicPr>
        <p:blipFill>
          <a:blip r:embed="rId2"/>
          <a:stretch/>
        </p:blipFill>
        <p:spPr>
          <a:xfrm>
            <a:off x="3745080" y="4540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b.haylock\Desktop\url.jpg"/>
          <p:cNvPicPr/>
          <p:nvPr/>
        </p:nvPicPr>
        <p:blipFill>
          <a:blip r:embed="rId3"/>
          <a:stretch/>
        </p:blipFill>
        <p:spPr>
          <a:xfrm>
            <a:off x="382680" y="4648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368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Support for Sessional Academic Staff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-3877560"/>
            <a:ext cx="7488360" cy="14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Enrolments of sessional </a:t>
            </a:r>
            <a:r>
              <a:rPr b="0" lang="en-AU" sz="2800" spc="-1" strike="noStrike">
                <a:solidFill>
                  <a:srgbClr val="03202f"/>
                </a:solidFill>
                <a:latin typeface="Arial Rounded MT Bold"/>
              </a:rPr>
              <a:t> </a:t>
            </a: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academic staff of the postgradu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education courses are high. For example recent enrolments 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Master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2015 – 10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2014 – 14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Graduate Certificate in Tertiary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2013 – 6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2012 –</a:t>
            </a:r>
            <a:r>
              <a:rPr b="0" lang="en-AU" sz="2800" spc="-1" strike="noStrike" baseline="30000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Rounded MT Bold"/>
              </a:rPr>
              <a:t>12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3202f"/>
                </a:solidFill>
                <a:latin typeface="Arial Rounded MT Bold"/>
              </a:rPr>
              <a:t> </a:t>
            </a:r>
            <a:r>
              <a:rPr b="1" lang="en-AU" sz="2800" spc="-1" strike="noStrike" baseline="30000">
                <a:solidFill>
                  <a:srgbClr val="03202f"/>
                </a:solidFill>
                <a:latin typeface="Arial Rounded MT Bold"/>
              </a:rPr>
              <a:t> </a:t>
            </a:r>
            <a:r>
              <a:rPr b="1" lang="en-AU" sz="2800" spc="-1" strike="noStrike">
                <a:solidFill>
                  <a:srgbClr val="03202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:\Users\b.haylock\Desktop\AMCA Logo -  Without tagline_Positive.jpg"/>
          <p:cNvPicPr/>
          <p:nvPr/>
        </p:nvPicPr>
        <p:blipFill>
          <a:blip r:embed="rId1"/>
          <a:stretch/>
        </p:blipFill>
        <p:spPr>
          <a:xfrm>
            <a:off x="5724360" y="4581360"/>
            <a:ext cx="2743200" cy="866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9047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Positive outcomes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449000"/>
            <a:ext cx="748836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Development of scholarly community at BH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Group of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Mixed sector sympo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Strategic alliance with university partners Deakin, La Trobe, ACU and Monash University and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12920" y="5676840"/>
            <a:ext cx="602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33820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Resourcing needed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3200040"/>
            <a:ext cx="7920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Funding for professional development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Funding for grant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Partnering with universities or industr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-171000" y="6308640"/>
            <a:ext cx="456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8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8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8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8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9047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Challenges and Areas for Improvement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987560"/>
            <a:ext cx="82803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Developing academic community within VET-identified i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Funding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320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baseline="30000">
                <a:solidFill>
                  <a:srgbClr val="03202f"/>
                </a:solidFill>
                <a:latin typeface="Arial Rounded MT Bold"/>
              </a:rPr>
              <a:t>Opportunities to partner for research with  universities and indu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9047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dc00"/>
                </a:solidFill>
                <a:latin typeface="Arial Rounded MT Bold"/>
              </a:rPr>
              <a:t>Evidence of impact/ success?</a:t>
            </a:r>
            <a:endParaRPr b="1" lang="en-US" sz="4000" spc="-1" strike="noStrike">
              <a:solidFill>
                <a:srgbClr val="ccdc00"/>
              </a:solidFill>
              <a:latin typeface="Arial Rounded MT Bold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42920" y="951840"/>
            <a:ext cx="748980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Now accredited to deli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2 higher education dipl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7 associate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14 bachelor’s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4 graduate dipl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3 master’s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In nine disciplines across two camp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Over 130 students graduated in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6172200"/>
            <a:ext cx="542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Support for Sessional Academic Staff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 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Box Hill Institute  </a:t>
            </a:r>
            <a:r>
              <a:rPr b="0" lang="en-US" sz="700" spc="-1" strike="noStrike">
                <a:solidFill>
                  <a:srgbClr val="ccdc00"/>
                </a:solidFill>
                <a:latin typeface="Arial Rounded MT Bold"/>
              </a:rPr>
              <a:t>|</a:t>
            </a:r>
            <a:r>
              <a:rPr b="0" lang="en-US" sz="700" spc="-1" strike="noStrike">
                <a:solidFill>
                  <a:srgbClr val="03202f"/>
                </a:solidFill>
                <a:latin typeface="Arial Rounded MT Bold"/>
              </a:rPr>
              <a:t> April 20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1:28:59Z</dcterms:created>
  <dc:creator>dd dd</dc:creator>
  <dc:description/>
  <dc:language>en-US</dc:language>
  <cp:lastModifiedBy>Julia Frederick</cp:lastModifiedBy>
  <dcterms:modified xsi:type="dcterms:W3CDTF">2015-03-15T23:25:23Z</dcterms:modified>
  <cp:revision>98</cp:revision>
  <dc:subject/>
  <dc:title>PowerPoint Presentation</dc:title>
</cp:coreProperties>
</file>